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50320" y="152280"/>
            <a:ext cx="10936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tform &amp;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75 SG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31080" y="138240"/>
            <a:ext cx="246240" cy="1872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6. Mar.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2560" y="35568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L produc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Plo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130400" y="1319040"/>
            <a:ext cx="7326000" cy="4717440"/>
            <a:chOff x="1130400" y="1319040"/>
            <a:chExt cx="7326000" cy="4717440"/>
          </a:xfrm>
        </p:grpSpPr>
        <p:sp>
          <p:nvSpPr>
            <p:cNvPr id="89" name=""/>
            <p:cNvSpPr/>
            <p:nvPr/>
          </p:nvSpPr>
          <p:spPr>
            <a:xfrm>
              <a:off x="1130400" y="1319040"/>
              <a:ext cx="7326000" cy="4717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84760" y="1319040"/>
              <a:ext cx="7249680" cy="47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158840" y="1468440"/>
            <a:ext cx="7269120" cy="43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chedule/PV/Milesto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: 01.04.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:   26.09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:  14.0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0: 26.04.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5: 24.11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4:   28.02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1: 03.06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3:   10.01.06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3:  28.03.06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jor Iss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about switching to SG2 solution still ongoing due to the fact that a lot of one-time L1 effort would be necessary but from today’s point of view SG2 Rel. 2 in 02/06 is highly endangered (see Polaris Status Repo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design is based on a rotated display which is not possible without either changing the display modules or use a different speaker – investigations ong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d AAC-Chip (SACC-X) required with included SD-Interface and 26MHz SPI. Schedule risky but fea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one-time effort  for support of Nano-I/O, AAC chip with SD interface, display interface not via video c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support of 130x130 display resolution possible as no SGL-based MMI available for 128x128 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9800" y="3317760"/>
            <a:ext cx="376200" cy="85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4040" y="3376440"/>
            <a:ext cx="195120" cy="20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2600" y="3641760"/>
            <a:ext cx="195120" cy="208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2600" y="3908520"/>
            <a:ext cx="195120" cy="207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CN1FZ000</cp:lastModifiedBy>
  <cp:lastPrinted>2004-02-29T14:41:19Z</cp:lastPrinted>
  <dcterms:modified xsi:type="dcterms:W3CDTF">2005-03-07T08:28:24Z</dcterms:modified>
  <cp:revision>718</cp:revision>
  <dc:subject/>
  <dc:title>PowerPoint Presentation</dc:title>
</cp:coreProperties>
</file>